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8974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65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9380E-43C0-4DE7-96C1-DE18D9D7D5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9993F-635A-4C55-9539-B1C6DFD787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1131A-5733-4142-BB58-283CF653E3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371600" y="763560"/>
            <a:ext cx="490068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886C0-7C0C-4336-B64A-84C24D74F7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E7DC1-5EC1-4641-A18C-453AF004F8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371600" y="763560"/>
            <a:ext cx="490068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B6805-8BEA-4F52-9237-208C583870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98090-6587-4DBE-A0BB-206BA4B9DA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3532E-A85F-49ED-B155-38DE6F4140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BFBA4-ECD5-4B91-B539-659A0702D6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86429-BD2E-42CB-8237-CE2D2A7D12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871C1-00C2-4E53-BE2B-31CF8DFC02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5D1E8-8845-446D-B162-E4084AC0BC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26000-B842-4F25-8E6A-9709618717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128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012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128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012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46440"/>
            <a:ext cx="475128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Laptop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ember 18 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22076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28600" y="969840"/>
            <a:ext cx="51642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33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DejaVu Sans"/>
              </a:rPr>
              <a:t>Futu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 Sans"/>
              </a:rPr>
              <a:t>Automatic management of suspend/resu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 Sans"/>
              </a:rPr>
              <a:t>Aggressive CPU suspe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96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 Sans"/>
              </a:rPr>
              <a:t>Suspend measurements are in the 2 watt r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elping OLPC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62440" cy="31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Loc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we n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the climate and geography of deployment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s  of closest larg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natural resources are availab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many schools, how many kids, and how many kids per cla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0" y="914400"/>
            <a:ext cx="5572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30932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DejaVu Sans"/>
              </a:rPr>
              <a:t>How many of those schools don't have a power grid or have unreliable powe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30932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DejaVu Sans"/>
              </a:rPr>
              <a:t>Expected laptop usage.   How often will you need to recharge the batteri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79440" y="3240"/>
            <a:ext cx="47559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elping O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62440" cy="25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lying power can be a large and difficult challenge in a deployment.  Even in areas with a power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ck of an established grid increased the difficulty significan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recipe solutions. Each site is u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ow Much Power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11480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 Primary 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charg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x draw of 17 Wat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ss than 1 watt in 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g 4 – 7 watts while running w/ peaks up to 9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harging.  How Long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stest.  Laptop of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 power used to charge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hour 46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ptop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cess power used to charge pow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bout 2 and half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Various solar panels at MAX output 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pto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W 5 hours 15 min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W 3 hours 4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W 2 hours 4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8080"/>
                </a:solidFill>
                <a:latin typeface="Arial"/>
              </a:rPr>
              <a:t>Alternative</a:t>
            </a: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 Power Sourc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0760" y="777600"/>
            <a:ext cx="4937040" cy="26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/7/10 Watt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rox 30 Watt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Batteries in 2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Ah LA battery.  Will charge 2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za battery needs recharging af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8080"/>
                </a:solidFill>
                <a:latin typeface="Arial"/>
              </a:rPr>
              <a:t>Alternative Power Sources</a:t>
            </a:r>
            <a:endParaRPr b="1" lang="en-US" sz="26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needs 2 hours of cra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really viable until Ge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ass Ro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w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, Wind, Pedal,Tread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Multi-Battery Charg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rges 15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00 Watt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20 Watt DC option (10 – 28 Volt inpu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rect connection to 60W solar blanket(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stable builds have support for sleep on lid close o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2.x Has New “Extreme” power savings mode + additional power savings in sleep for non-mesh. (40+ hours of life in sleep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5:53Z</dcterms:modified>
  <cp:revision>1</cp:revision>
  <dc:subject/>
  <dc:title>One Laptop per Child</dc:title>
</cp:coreProperties>
</file>